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13.jpeg" ContentType="image/jpeg"/>
  <Override PartName="/ppt/media/image6.jpeg" ContentType="image/jpeg"/>
  <Override PartName="/ppt/media/image8.png" ContentType="image/png"/>
  <Override PartName="/ppt/media/image4.png" ContentType="image/png"/>
  <Override PartName="/ppt/media/image12.wmf" ContentType="image/x-wmf"/>
  <Override PartName="/ppt/media/image7.png" ContentType="image/png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BCA-F3A3-45AE-91C4-E0C88BF1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13E-C747-4F5E-B48D-F09B91E7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F60-C5E7-453E-AA4C-78552754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E909-E37E-4254-90F8-68A0A825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119B-057D-418A-9426-A855918B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72B-27D5-4B81-B52C-CCF0D90C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B76-DDE7-4798-BBA5-787F4E25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BFA-0FC0-4F3B-B0CD-6E1272D5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7B07-05D5-4375-BD08-DE4A3F4E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D61-78A9-465B-B99A-55E4E669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77E-CE4F-4A9A-8308-97CDB9D3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8CD-2E78-46A5-8A40-BEB176AE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BC44-6EEE-4A64-BF68-67C7BEBA3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1" lang="ru-RU" sz="4200" spc="-1" strike="noStrike">
                <a:solidFill>
                  <a:srgbClr val="ff0000"/>
                </a:solidFill>
                <a:latin typeface="Georgia"/>
              </a:rPr>
              <a:t>«Линецкий сельсовет»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Железногорского района Курской области на 201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8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год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и на плановый период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201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9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и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2020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г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Линецкий сельсовет» Железногорского района Курской области в 2018-2020 годах (тыс.руб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692280"/>
          <a:ext cx="8713800" cy="4468680"/>
        </p:xfrm>
        <a:graphic>
          <a:graphicData uri="http://schemas.openxmlformats.org/drawingml/2006/table">
            <a:tbl>
              <a:tblPr/>
              <a:tblGrid>
                <a:gridCol w="6315120"/>
                <a:gridCol w="776160"/>
                <a:gridCol w="776160"/>
                <a:gridCol w="8463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18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19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20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60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89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14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13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19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23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. Муниципальная программа «Развитие культуры в Линецком сельсовете Железногорского района Курской области на 2015-2020 год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04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06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09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.Муниципальная программа «Комплексная программ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благоустройства территории Муниципального образования «Линецкий сельсовет» Железногорского района Курской области на 2017-202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8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8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. Муниципальная программа «Защита населения и территории от чрезвычайных ситуаций, обеспечение пожарной безопасности и безопасности людей на водных объектах в Линецком сельсовете Железногорского района Курской области на 2015-2020 год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1189080" y="189000"/>
            <a:ext cx="10333080" cy="7750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Линецкий сельсовет» </a:t>
            </a:r>
            <a:br>
              <a:rPr sz="2000"/>
            </a:b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Железногорского района Курской области (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6086520"/>
        </p:xfrm>
        <a:graphic>
          <a:graphicData uri="http://schemas.openxmlformats.org/drawingml/2006/table">
            <a:tbl>
              <a:tblPr/>
              <a:tblGrid>
                <a:gridCol w="4978440"/>
                <a:gridCol w="1152360"/>
                <a:gridCol w="1079640"/>
                <a:gridCol w="101916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140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162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183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33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33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33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67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67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67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Резервный фон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39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60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81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100728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5435640" y="907920"/>
            <a:ext cx="2736720" cy="432144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Линецкого сельсо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«Линецкий сельсов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«Линецкий сельсовет»  Железногорского района Курской области на 2018 год и плановый период 2019-2020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2205000"/>
          <a:ext cx="8351640" cy="4251240"/>
        </p:xfrm>
        <a:graphic>
          <a:graphicData uri="http://schemas.openxmlformats.org/drawingml/2006/table">
            <a:tbl>
              <a:tblPr/>
              <a:tblGrid>
                <a:gridCol w="2670120"/>
                <a:gridCol w="1565280"/>
                <a:gridCol w="1560600"/>
                <a:gridCol w="2555640"/>
              </a:tblGrid>
              <a:tr h="69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19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0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6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89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1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131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28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60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86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8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60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89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1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Линецкий сельсовет» на 2018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9280" y="1844640"/>
            <a:ext cx="8460720" cy="4462560"/>
            <a:chOff x="179280" y="1844640"/>
            <a:chExt cx="8460720" cy="4462560"/>
          </a:xfrm>
        </p:grpSpPr>
        <p:cxnSp>
          <p:nvCxnSpPr>
            <p:cNvPr id="61" name="_s13327"/>
            <p:cNvCxnSpPr>
              <a:stCxn id="62" idx="0"/>
              <a:endCxn id="63" idx="2"/>
            </p:cNvCxnSpPr>
            <p:nvPr/>
          </p:nvCxnSpPr>
          <p:spPr>
            <a:xfrm flipV="1" rot="16200000">
              <a:off x="5443560" y="2594160"/>
              <a:ext cx="893160" cy="29620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3326"/>
            <p:cNvCxnSpPr>
              <a:stCxn id="65" idx="0"/>
              <a:endCxn id="63" idx="2"/>
            </p:cNvCxnSpPr>
            <p:nvPr/>
          </p:nvCxnSpPr>
          <p:spPr>
            <a:xfrm flipV="1">
              <a:off x="4409280" y="3628800"/>
              <a:ext cx="396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3325"/>
            <p:cNvCxnSpPr>
              <a:stCxn id="67" idx="0"/>
              <a:endCxn id="63" idx="2"/>
            </p:cNvCxnSpPr>
            <p:nvPr/>
          </p:nvCxnSpPr>
          <p:spPr>
            <a:xfrm flipH="1" flipV="1" rot="5400000">
              <a:off x="2482560" y="2594520"/>
              <a:ext cx="893160" cy="29620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" name="_s13321"/>
            <p:cNvSpPr/>
            <p:nvPr/>
          </p:nvSpPr>
          <p:spPr>
            <a:xfrm>
              <a:off x="3140640" y="1844640"/>
              <a:ext cx="25380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>
                    <a:alpha val="47058"/>
                  </a:srgbClr>
                </a:gs>
                <a:gs pos="50000">
                  <a:srgbClr val="ffebfa"/>
                </a:gs>
                <a:gs pos="100000">
                  <a:srgbClr val="5e9eff">
                    <a:alpha val="47058"/>
                  </a:srgbClr>
                </a:gs>
              </a:gsLst>
              <a:lin ang="13500000"/>
            </a:gra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Georgia"/>
                </a:rPr>
                <a:t>Доходы (всего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Georgia"/>
                </a:rPr>
                <a:t>2609,5 тыс.руб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3322"/>
            <p:cNvSpPr/>
            <p:nvPr/>
          </p:nvSpPr>
          <p:spPr>
            <a:xfrm>
              <a:off x="179280" y="4522320"/>
              <a:ext cx="25380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2">
                <a:alphaModFix amt="50000"/>
              </a:blip>
              <a:srcRect/>
              <a:tile tx="0" ty="0" sx="100000" sy="100000" algn="ctr"/>
            </a:blipFill>
            <a:ln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2101,8 тыс.руб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3323"/>
            <p:cNvSpPr/>
            <p:nvPr/>
          </p:nvSpPr>
          <p:spPr>
            <a:xfrm>
              <a:off x="3140640" y="4522320"/>
              <a:ext cx="25380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181,6 тыс.руб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3324"/>
            <p:cNvSpPr/>
            <p:nvPr/>
          </p:nvSpPr>
          <p:spPr>
            <a:xfrm>
              <a:off x="6102000" y="4522320"/>
              <a:ext cx="25380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321,1 тыс.руб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Линец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18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4000" y="1413000"/>
          <a:ext cx="9137520" cy="504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13000"/>
                    <a:ext cx="91375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Линец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19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438120" y="2852640"/>
          <a:ext cx="9582120" cy="530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38120" y="2852640"/>
                    <a:ext cx="9582120" cy="53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Линец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20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-372960" y="1442880"/>
          <a:ext cx="8924760" cy="49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72960" y="1442880"/>
                    <a:ext cx="892476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Линецкий сельсовет» Железногорского района Курской области на 2018 год и на плановый период 2019 и 2020 годов (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8360" y="1125360"/>
          <a:ext cx="8229600" cy="3794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ультура, кинемат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Admin</cp:lastModifiedBy>
  <dcterms:modified xsi:type="dcterms:W3CDTF">2017-12-27T12:10:25Z</dcterms:modified>
  <cp:revision>18</cp:revision>
  <dc:subject/>
  <dc:title>БЮДЖЕТ ДЛЯ ГРАЖДАН  муниципального образования «Кармановский сельсовет» Железногорского района Курской области на 2015 год  и на плановый период  2016 и 2017 годов</dc:title>
</cp:coreProperties>
</file>