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B30-8E90-4706-B92C-EB4E3797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75F-D748-4160-8B3C-5D91CFA1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C67-6BB3-4A35-AAC1-6C287A70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2D3-D47A-4435-9B7B-C9187F0F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BAA-511A-42BA-AD75-DA7ED9B1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8FD-4906-414A-8A4E-8AEA23B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142-232B-4BD8-A293-86AD5AA7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C43-674C-4D15-9F91-9CF6142E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66C-5E69-40F3-B588-0B00BA27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69E-2DB8-4A83-80BC-9AB7DC7D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0B2-7FAA-405B-AE20-A835C46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314-76FF-44DC-BE0F-D19302BB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7012-D266-4B62-A14F-12B895BB3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ОТЧЕТ ДЛЯ ГРАЖДАН ОБ ИСПОЛНЕНИИ БЮДЖЕТА </a:t>
            </a: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«Линецкий сельсовет»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Железногорского района Курской области ЗА 2019 год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00728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5435640" y="907920"/>
            <a:ext cx="2736720" cy="432144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расхода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«Линецкий сельсовет»  Железногорского района Курской области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8360" y="2205000"/>
          <a:ext cx="8351640" cy="4460760"/>
        </p:xfrm>
        <a:graphic>
          <a:graphicData uri="http://schemas.openxmlformats.org/drawingml/2006/table">
            <a:tbl>
              <a:tblPr/>
              <a:tblGrid>
                <a:gridCol w="2670120"/>
                <a:gridCol w="1565280"/>
                <a:gridCol w="1560600"/>
                <a:gridCol w="25556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верждено на 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сполнено за 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4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4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Поступление доходов в  бюджет муниципального образования «Линецкий сельсовет» за 2019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9280" y="1844640"/>
            <a:ext cx="8460720" cy="4462560"/>
            <a:chOff x="179280" y="1844640"/>
            <a:chExt cx="8460720" cy="4462560"/>
          </a:xfrm>
        </p:grpSpPr>
        <p:cxnSp>
          <p:nvCxnSpPr>
            <p:cNvPr id="55" name="_s36870"/>
            <p:cNvCxnSpPr>
              <a:stCxn id="56" idx="0"/>
              <a:endCxn id="57" idx="2"/>
            </p:cNvCxnSpPr>
            <p:nvPr/>
          </p:nvCxnSpPr>
          <p:spPr>
            <a:xfrm flipV="1" rot="16200000">
              <a:off x="5469840" y="2597040"/>
              <a:ext cx="843840" cy="2958480"/>
            </a:xfrm>
            <a:prstGeom prst="bentConnector3">
              <a:avLst>
                <a:gd name="adj1" fmla="val 13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36871"/>
            <p:cNvCxnSpPr>
              <a:stCxn id="59" idx="0"/>
              <a:endCxn id="57" idx="2"/>
            </p:cNvCxnSpPr>
            <p:nvPr/>
          </p:nvCxnSpPr>
          <p:spPr>
            <a:xfrm flipV="1">
              <a:off x="4412520" y="3654720"/>
              <a:ext cx="3240" cy="84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6872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2508480" y="2593800"/>
              <a:ext cx="843840" cy="2965320"/>
            </a:xfrm>
            <a:prstGeom prst="bentConnector3">
              <a:avLst>
                <a:gd name="adj1" fmla="val 13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36873"/>
            <p:cNvSpPr/>
            <p:nvPr/>
          </p:nvSpPr>
          <p:spPr>
            <a:xfrm>
              <a:off x="3140640" y="1844640"/>
              <a:ext cx="25380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>
                    <a:alpha val="47058"/>
                  </a:srgbClr>
                </a:gs>
                <a:gs pos="50000">
                  <a:srgbClr val="ffebfa"/>
                </a:gs>
                <a:gs pos="100000">
                  <a:srgbClr val="5e9eff">
                    <a:alpha val="47058"/>
                  </a:srgbClr>
                </a:gs>
              </a:gsLst>
              <a:lin ang="13500000"/>
            </a:gra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Доходы (всего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6 323,6 тыс.руб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6874"/>
            <p:cNvSpPr/>
            <p:nvPr/>
          </p:nvSpPr>
          <p:spPr>
            <a:xfrm>
              <a:off x="17928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4 883,1 тыс.ру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6875"/>
            <p:cNvSpPr/>
            <p:nvPr/>
          </p:nvSpPr>
          <p:spPr>
            <a:xfrm>
              <a:off x="314064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553,0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6876"/>
            <p:cNvSpPr/>
            <p:nvPr/>
          </p:nvSpPr>
          <p:spPr>
            <a:xfrm>
              <a:off x="610200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887,5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556000" y="9190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поступления налоговых и неналоговых (собственных) доходов в бюджет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за 20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-438120" y="2852640"/>
          <a:ext cx="9582120" cy="530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38120" y="2852640"/>
                    <a:ext cx="958212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Линецкий сельсовет» Железногорского района Курской области  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268280"/>
          <a:ext cx="8229600" cy="8437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1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о на 2019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 за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онирование высшего должностного лица субъекта Российской  Федераци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ервны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исполнения  бюджета муниципального образования «Линецкий сельсовет» Железногорского района Курской области за 2019 год (тыс.руб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692280"/>
          <a:ext cx="8713800" cy="6922800"/>
        </p:xfrm>
        <a:graphic>
          <a:graphicData uri="http://schemas.openxmlformats.org/drawingml/2006/table">
            <a:tbl>
              <a:tblPr/>
              <a:tblGrid>
                <a:gridCol w="6121440"/>
                <a:gridCol w="936360"/>
                <a:gridCol w="863640"/>
                <a:gridCol w="79236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Утверждено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сполнено з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6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6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8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. Муниципальная программа «Развитие культуры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.Муниципальная программа «Развитие муниципальной службы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.Муниципальная программа «Благоустройство территории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.Муниципальная программа «Социальная поддержка граждан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189080" y="189000"/>
            <a:ext cx="10333080" cy="7750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Линецкий сельсовет»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Железногорского района Курской области за 2019 год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6527880"/>
        </p:xfrm>
        <a:graphic>
          <a:graphicData uri="http://schemas.openxmlformats.org/drawingml/2006/table">
            <a:tbl>
              <a:tblPr/>
              <a:tblGrid>
                <a:gridCol w="4978440"/>
                <a:gridCol w="1152360"/>
                <a:gridCol w="1079640"/>
                <a:gridCol w="10191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Утверждено на 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Исполнено за 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5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4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3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3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Резервный фо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Admin</cp:lastModifiedBy>
  <dcterms:modified xsi:type="dcterms:W3CDTF">2021-02-17T08:08:47Z</dcterms:modified>
  <cp:revision>24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